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B1DD-717D-4E7C-8C42-B292A1EB4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A9F8-4266-4575-B6A1-322D27A50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53EA-7CCB-4B50-A054-E8438F016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CF18-81D3-40E2-8423-0784EE2EE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from: http://cmapspublic2.ihmc.us/rid=1L3S3GB98-1QBLTG2-1GQP/Protein%20synthesis.c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CAEE-3A56-4D93-9049-34C09C888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7980-9279-4049-A458-1B2930DD5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56B0-C60F-4C35-B2B5-E463F7582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bioap.wikispaces.com/Ch+17+Collaboration+201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DEF6-98E4-475B-B557-6888F59F9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65D8-90D9-494A-8353-C8F3E621C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E5B9-2C34-4DE2-8D87-D2E7D5271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users.rcn.com/jkimball.ma.ultranet/BiologyPages/T/Translation.html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3BC4-F297-4065-8737-27FDE0AA8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9F31-A95F-4768-80DE-B0EE138AC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8FD9-3405-423E-B07F-C486698F5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from: http://bioweb.uwlax.edu/genweb/molecular/theory/translation/translatio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0E9F-87E0-400F-9867-A23C34C87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44A7-FCEF-4FE0-B34F-B8F007972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from: http://bass.bio.uci.edu/~hudel/bs99a/lecture21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7896-BE3C-4380-8C58-EF22F76B9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sylation:  addition of a carbohydr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69F4-3EF5-47B3-A029-770203B90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03B6-5D5B-4045-9376-86376457A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wiley.com/college/boyer/0470003790/structure/tRNA/trna_intro.ht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4BB2-553C-4D5C-9C51-356D59804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288A-CA2F-4C04-9E16-1431B8E37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10F4-3BCB-412D-B9C5-BC988FBC1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from: http://www.nobelprize.org/educational/medicine/dna/a/translation/trna_wobbl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371D-EFD9-4855-BE71-053359B60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from:http://www.mun.ca/biology/scarr/MGA2_03-20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7E37-E67C-4E4F-93F0-F9552E84D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logie.uni-hamburg.de/b-online/library/onlinebio/BioBookCELL2.html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AA6-9670-4ABF-A549-FD96588D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24E-3223-4ABD-950D-2CF83CAD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50F-3FA7-47F9-B1A6-F13EEAC6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2AB-81F6-462E-8073-9204BE45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64B-AB1A-4C31-B59F-AF05A9F8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CE6-8F9F-456B-98D8-77C29E68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997-14F9-4143-ABED-353FE89E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1873-85B2-4357-892B-972C9EC8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E75-9548-456F-8505-BF884DD3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CA1-8B87-4FBC-8FF9-C7F5C48C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984-E9D6-4B87-9CB6-5879E3F7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D67-C47E-4DD0-BA39-E6E40EFC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D815-1541-4527-8A5A-693F8E48D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ighered.mheducation.com/sites/0072507470/student_view0/chapter3/animation__how_translation_work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osome Binding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minoacyl site): incoming aminoacyl tRNA bind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eptidyl site): where tRNA with the growing polypeptid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xit site): where tRNA leaves the rib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Ribosome binding sites"/>
          <p:cNvPicPr/>
          <p:nvPr/>
        </p:nvPicPr>
        <p:blipFill>
          <a:blip r:embed="rId1"/>
          <a:stretch/>
        </p:blipFill>
        <p:spPr>
          <a:xfrm>
            <a:off x="998640" y="609480"/>
            <a:ext cx="7146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bosome recognizes the 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p of the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 (methionine)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the first cod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sure the corr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text_figure12"/>
          <p:cNvPicPr/>
          <p:nvPr/>
        </p:nvPicPr>
        <p:blipFill>
          <a:blip r:embed="rId1"/>
          <a:stretch/>
        </p:blipFill>
        <p:spPr>
          <a:xfrm>
            <a:off x="5410080" y="3048120"/>
            <a:ext cx="2689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translation_initiation"/>
          <p:cNvPicPr/>
          <p:nvPr/>
        </p:nvPicPr>
        <p:blipFill>
          <a:blip r:embed="rId1"/>
          <a:stretch/>
        </p:blipFill>
        <p:spPr>
          <a:xfrm>
            <a:off x="685800" y="2367000"/>
            <a:ext cx="77724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itiator tRNA (with methionine) enter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NA with the second amino acid enter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ide bond forms between the methionine and the second amino acid (enzyme peptidyl transfer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bosome shifts one co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ionine tRNA is released (E s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tRNA moves to the P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tRNA enters the A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ide bond is formed between the second and third amino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ngation continues on in this m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Translation"/>
          <p:cNvPicPr/>
          <p:nvPr/>
        </p:nvPicPr>
        <p:blipFill>
          <a:blip r:embed="rId1"/>
          <a:stretch/>
        </p:blipFill>
        <p:spPr>
          <a:xfrm>
            <a:off x="3106800" y="1981080"/>
            <a:ext cx="292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codons: UGA, UAG and U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tein binds to A site, polypeptide is released from P site, and the 2 subunits of the ribosome sepa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translation_termination"/>
          <p:cNvPicPr/>
          <p:nvPr/>
        </p:nvPicPr>
        <p:blipFill>
          <a:blip r:embed="rId1"/>
          <a:stretch/>
        </p:blipFill>
        <p:spPr>
          <a:xfrm>
            <a:off x="2133720" y="4419720"/>
            <a:ext cx="487656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ated animation (McGraw-Hill) with qui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highered.mheducation.com/sites/0072507470/student_view0/chapter3/animation__how_translation_work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formation coded in mRNA is translated to a polypeptide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ontent Placeholder 2" descr="ribosome.jpg"/>
          <p:cNvPicPr/>
          <p:nvPr/>
        </p:nvPicPr>
        <p:blipFill>
          <a:blip r:embed="rId1"/>
          <a:srcRect l="15711" t="0" r="15711" b="0"/>
          <a:stretch/>
        </p:blipFill>
        <p:spPr>
          <a:xfrm>
            <a:off x="4140360" y="1700280"/>
            <a:ext cx="460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karyotes vs. Prokary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omplex formed when multiple ribosomes attach to the same mRNA (in both types of ce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karyotic cells, translation and transcription can happen at the same time, so protein synthesis can be much f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polysome"/>
          <p:cNvPicPr/>
          <p:nvPr/>
        </p:nvPicPr>
        <p:blipFill>
          <a:blip r:embed="rId1"/>
          <a:stretch/>
        </p:blipFill>
        <p:spPr>
          <a:xfrm>
            <a:off x="860400" y="609480"/>
            <a:ext cx="7421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peptide to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lypeptides are folded into their final protein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odifications include addition of molecules such as sugars, assembling of mutiple polypeptide chain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-90 nucleotides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ouble-helical se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verleaf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equence of 3 bases) is complementary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trna_diagram"/>
          <p:cNvPicPr/>
          <p:nvPr/>
        </p:nvPicPr>
        <p:blipFill>
          <a:blip r:embed="rId1"/>
          <a:stretch/>
        </p:blipFill>
        <p:spPr>
          <a:xfrm>
            <a:off x="2316240" y="609480"/>
            <a:ext cx="4510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acy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dition of amino acids to the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d by aminoacyl-tRNA synthetase enz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inoacyl-tR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NA with corresponding amino acid att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bble 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NA can recognize more than one codon by flexible pairing between the first (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ase of the anticodon and third (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ase of the co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tRNA_wobble"/>
          <p:cNvPicPr/>
          <p:nvPr/>
        </p:nvPicPr>
        <p:blipFill>
          <a:blip r:embed="rId1"/>
          <a:stretch/>
        </p:blipFill>
        <p:spPr>
          <a:xfrm>
            <a:off x="1986120" y="609480"/>
            <a:ext cx="5171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MGA2-03-28"/>
          <p:cNvPicPr/>
          <p:nvPr/>
        </p:nvPicPr>
        <p:blipFill>
          <a:blip r:embed="rId1"/>
          <a:stretch/>
        </p:blipFill>
        <p:spPr>
          <a:xfrm>
            <a:off x="1357200" y="609480"/>
            <a:ext cx="64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ubunits: large and s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units clamp the mRNA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ribosome"/>
          <p:cNvPicPr/>
          <p:nvPr/>
        </p:nvPicPr>
        <p:blipFill>
          <a:blip r:embed="rId1"/>
          <a:stretch/>
        </p:blipFill>
        <p:spPr>
          <a:xfrm>
            <a:off x="4648320" y="3016080"/>
            <a:ext cx="38098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0:14:18Z</dcterms:created>
  <dc:creator>user</dc:creator>
  <dc:description/>
  <dc:language>en-US</dc:language>
  <cp:lastModifiedBy>rubina khan</cp:lastModifiedBy>
  <dcterms:modified xsi:type="dcterms:W3CDTF">2017-04-03T14:00:04Z</dcterms:modified>
  <cp:revision>137</cp:revision>
  <dc:subject/>
  <dc:title>PowerPoint Presentation</dc:title>
</cp:coreProperties>
</file>